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A2F-0A8F-4BB5-ADA4-7E1B0AD7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FE2-4E01-408A-9B55-486F6DAA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837-AF01-41F0-9616-68ED8D9D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BA1-5D95-4043-B55A-AA68A022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108-A4DC-46AC-B771-0C3C7A2E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258-95AA-4EEE-8FBD-3BBBFD9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26F-FC6C-4C8B-8AD2-9D3C62B1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18A-F886-4A8C-8E3C-B157115B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945-592C-4F1E-B868-B235B510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EBD-2C19-4812-8663-8FFA18B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F53-CFF6-4BEE-908B-1A514D05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A7C-BB18-4B69-9944-B094BDDC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5656-BE5A-4D03-ADC7-9EB85B35A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1 Meno Ježiš požehnan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Ježiš požehna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ácnejšieho mena ni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je všade zvestova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pásu prijal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Ježiš slávne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máme spas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šír o ňom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rukou daj sa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om mu vzdávaj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mene Pán Boh žeh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dáva v 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k nám je ver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núka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Ježiš slávne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máme spas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šír o ňom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rukou daj sa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om mu vzdávaj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vaj menu Ježi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ec nám v ňom všetko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uj sa, kto v neho ver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slúž, on je tvoj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Ježiš slávne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máme spas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šír o ňom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rukou daj sa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om mu vzdávaj č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0:32:48Z</dcterms:modified>
  <cp:revision>20</cp:revision>
  <dc:subject/>
  <dc:title>Je veľký náš Pán, on slávy je Kráľ Nech do všetkých strán  spev vrúcnych znie chvál.</dc:title>
</cp:coreProperties>
</file>